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F60-A9E2-4A9F-9215-69D41060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0EE-FBA2-49BA-B36F-4FD05C9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5ED-F5D1-498E-93E9-500E688C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C39-F1AB-44E7-B49E-83EC27A5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359-3CD4-4BDA-B905-F240459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A67-926E-42EF-8837-847E55C1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029-0540-4CD5-95CC-822249C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80E-B8FD-47DA-8A7C-A6F4C01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D96-47DD-4FC6-B3CA-0952536A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90F-E8A0-4480-9FBD-3C7B45A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2EE-F2D3-4CF9-B6F0-BDA54797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027-8A9E-4997-900C-A93157C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38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5000"/>
            <a:ext cx="235116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5000"/>
            <a:ext cx="319104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FD7-2C60-43A2-86FD-0D9D7A1A2D13}" type="slidenum">
              <a:rPr b="0" lang="en-A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ybersalt.org/cleanlaugh/image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ybersalt.org/cleanlaugh/image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8920" y="1798200"/>
            <a:ext cx="86374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1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signated person should speak to the topic for 60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2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others just listen - you may ask clarifying questions if there i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3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en time is up please finish and move onto the next top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358920"/>
            <a:ext cx="100774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7186"/>
              </a:lnSpc>
              <a:tabLst>
                <a:tab algn="l" pos="0"/>
                <a:tab algn="l" pos="90360"/>
                <a:tab algn="l" pos="1004760"/>
                <a:tab algn="l" pos="1919160"/>
                <a:tab algn="l" pos="2835360"/>
                <a:tab algn="l" pos="3746520"/>
                <a:tab algn="l" pos="46623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Triads - Talking points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pider"/>
          <p:cNvPicPr/>
          <p:nvPr/>
        </p:nvPicPr>
        <p:blipFill>
          <a:blip r:embed="rId1"/>
          <a:stretch/>
        </p:blipFill>
        <p:spPr>
          <a:xfrm>
            <a:off x="3417840" y="2806560"/>
            <a:ext cx="323856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58920" y="358920"/>
            <a:ext cx="93567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i="1" lang="en-A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AU" sz="4400" spc="-1" strike="noStrike">
                <a:solidFill>
                  <a:srgbClr val="0000ff"/>
                </a:solidFill>
                <a:latin typeface="Arial"/>
              </a:rPr>
              <a:t>What information would you like to have to help you utilise the internet in your teach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eletelife"/>
          <p:cNvPicPr/>
          <p:nvPr/>
        </p:nvPicPr>
        <p:blipFill>
          <a:blip r:embed="rId1"/>
          <a:stretch/>
        </p:blipFill>
        <p:spPr>
          <a:xfrm>
            <a:off x="719280" y="3598920"/>
            <a:ext cx="8637480" cy="3127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19280" y="6948360"/>
            <a:ext cx="863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ybersalt.org/cleanlaugh/imag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58920" y="358920"/>
            <a:ext cx="93567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ts val="5400"/>
              </a:lnSpc>
              <a:spcBef>
                <a:spcPts val="1100"/>
              </a:spcBef>
              <a:spcAft>
                <a:spcPts val="2999"/>
              </a:spcAft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What is something you have done using the internet, or that you have heard of, which has been successful for student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ompaqblackout"/>
          <p:cNvPicPr/>
          <p:nvPr/>
        </p:nvPicPr>
        <p:blipFill>
          <a:blip r:embed="rId1"/>
          <a:stretch/>
        </p:blipFill>
        <p:spPr>
          <a:xfrm>
            <a:off x="1798560" y="2160720"/>
            <a:ext cx="6478560" cy="48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6"/>
          <p:cNvSpPr/>
          <p:nvPr/>
        </p:nvSpPr>
        <p:spPr>
          <a:xfrm>
            <a:off x="365040" y="361800"/>
            <a:ext cx="9390240" cy="691992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Times New Roman"/>
              </a:rPr>
              <a:t>How has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19280" y="7016760"/>
            <a:ext cx="863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ybersalt.org/cleanlaugh/imag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58920" y="358920"/>
            <a:ext cx="9356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9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his course has changed my thinking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ad Day 2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58920" y="358920"/>
            <a:ext cx="935676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just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One really positive thing that has happened to me in the last month i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rave Cat"/>
          <p:cNvPicPr/>
          <p:nvPr/>
        </p:nvPicPr>
        <p:blipFill>
          <a:blip r:embed="rId1"/>
          <a:stretch/>
        </p:blipFill>
        <p:spPr>
          <a:xfrm>
            <a:off x="1978200" y="2516040"/>
            <a:ext cx="6118200" cy="41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Rectangle 7"/>
          <p:cNvSpPr/>
          <p:nvPr/>
        </p:nvSpPr>
        <p:spPr>
          <a:xfrm>
            <a:off x="358920" y="358920"/>
            <a:ext cx="93567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just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s an educator I think my strengths are 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ggy"/>
          <p:cNvPicPr/>
          <p:nvPr/>
        </p:nvPicPr>
        <p:blipFill>
          <a:blip r:embed="rId1"/>
          <a:stretch/>
        </p:blipFill>
        <p:spPr>
          <a:xfrm>
            <a:off x="1978200" y="1619280"/>
            <a:ext cx="611820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8920" y="358920"/>
            <a:ext cx="9356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3.  I learn best when 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Change pla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920" y="1798560"/>
            <a:ext cx="9356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- move one place 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B - stay where you a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C - move one place anti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58920" y="358920"/>
            <a:ext cx="9356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alk briefly about an experience (good or bad) you have had with computer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mputer Rage.mpe" descr="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95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619280" y="2160720"/>
            <a:ext cx="6837480" cy="48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58920" y="358920"/>
            <a:ext cx="9356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he best thing about using computers at my school i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nail and Tortoise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217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58920" y="358920"/>
            <a:ext cx="93567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One thing about using the internet at my school which I would really like to change is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Change pla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58920" y="1798560"/>
            <a:ext cx="9356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- move one place 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B - stay where you a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C - move one place anti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XP SOE 1.1</cp:lastModifiedBy>
  <dcterms:modified xsi:type="dcterms:W3CDTF">2008-08-24T12:53:24Z</dcterms:modified>
  <cp:revision>46</cp:revision>
  <dc:subject/>
  <dc:title>Welcome</dc:title>
</cp:coreProperties>
</file>